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669-26B5-40C7-BB51-D920C0FD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53E-C8B4-4D60-A9D0-1A410BE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B3E-987C-47AD-B0AD-B09AFC3B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0A4-CB34-49D0-8050-8EAB02E8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6DD-E1E1-4240-81AC-6BB50AA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83D-BE3D-46CC-8801-A1C475AC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B0F8-F35A-4C8B-A393-E7D88D1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F9F-0613-4279-BC24-F5E05FE4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715-EED8-462B-A703-08F3945B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D6A5-335E-413C-9854-76F9B819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1CA0-F5F6-480B-ACAF-B857197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DAF-0080-4E44-BD6C-1F9E66AC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AA87-A403-4BAA-AD60-F32EF98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7150-5A06-4E40-AF1C-BC04E2A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F702-9C47-424D-A526-11E14AF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E674-E8A1-4C3B-A448-822D09E2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51D6-F1E9-4CC7-BA65-0742282D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30D-4D1B-4450-8FE9-4D35817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75-2B07-402B-8FB5-DE2F727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B4B-91E0-445F-A19F-E8D61377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544-F308-4BE2-8B0A-0A08B96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88E-8576-49D5-9A1A-22B4498D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607-7E53-48FF-9BE0-4AB7889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53D-B67C-43A8-AFE0-293026B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5579-25BF-487F-9775-2E896291D5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1902-6595-4D39-82EA-D4060DFDFB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nformatics.sussex.ac.uk/users/khs20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2411280"/>
            <a:ext cx="814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We might represent set of points (like a trajectory) as a  sum of a numbe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f Gaussian components. We decide how many components and fit to data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27200" y="5486400"/>
                <a:ext cx="6316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/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1447920" y="3200400"/>
            <a:ext cx="3773160" cy="2133360"/>
            <a:chOff x="1447920" y="3200400"/>
            <a:chExt cx="3773160" cy="2133360"/>
          </a:xfrm>
        </p:grpSpPr>
        <p:grpSp>
          <p:nvGrpSpPr>
            <p:cNvPr id="137" name=""/>
            <p:cNvGrpSpPr/>
            <p:nvPr/>
          </p:nvGrpSpPr>
          <p:grpSpPr>
            <a:xfrm>
              <a:off x="1447920" y="3200400"/>
              <a:ext cx="3657600" cy="2133360"/>
              <a:chOff x="1447920" y="3200400"/>
              <a:chExt cx="3657600" cy="2133360"/>
            </a:xfrm>
          </p:grpSpPr>
          <p:sp>
            <p:nvSpPr>
              <p:cNvPr id="138" name=""/>
              <p:cNvSpPr/>
              <p:nvPr/>
            </p:nvSpPr>
            <p:spPr>
              <a:xfrm rot="18601800">
                <a:off x="1545480" y="4168800"/>
                <a:ext cx="1523880" cy="3474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83400">
                <a:off x="2895120" y="3733200"/>
                <a:ext cx="1067040" cy="532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9290000">
                <a:off x="3809520" y="3656880"/>
                <a:ext cx="1143000" cy="45684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447920" y="3200400"/>
                <a:ext cx="3657600" cy="2133360"/>
                <a:chOff x="1447920" y="3200400"/>
                <a:chExt cx="3657600" cy="2133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447920" y="3200400"/>
                  <a:ext cx="0" cy="2133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47920" y="5333760"/>
                  <a:ext cx="3657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28800" y="3504960"/>
                  <a:ext cx="2971800" cy="1523520"/>
                </a:xfrm>
                <a:custGeom>
                  <a:avLst/>
                  <a:gdLst/>
                  <a:ahLst/>
                  <a:rect l="l" t="t" r="r" b="b"/>
                  <a:pathLst>
                    <a:path w="1872" h="960">
                      <a:moveTo>
                        <a:pt x="1872" y="0"/>
                      </a:moveTo>
                      <a:cubicBezTo>
                        <a:pt x="1680" y="204"/>
                        <a:pt x="1488" y="408"/>
                        <a:pt x="1296" y="432"/>
                      </a:cubicBezTo>
                      <a:cubicBezTo>
                        <a:pt x="1104" y="456"/>
                        <a:pt x="896" y="120"/>
                        <a:pt x="720" y="144"/>
                      </a:cubicBezTo>
                      <a:cubicBezTo>
                        <a:pt x="544" y="168"/>
                        <a:pt x="360" y="440"/>
                        <a:pt x="240" y="576"/>
                      </a:cubicBezTo>
                      <a:cubicBezTo>
                        <a:pt x="120" y="712"/>
                        <a:pt x="40" y="904"/>
                        <a:pt x="0" y="96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72280" y="34286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48600" y="35809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15080" y="37335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9140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96320" y="38095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81920" y="41144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05600" y="38858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253320" y="39621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329280" y="37335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2472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00680" y="38095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6752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14880" y="39621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86280" y="41907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43680" y="34286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1980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1052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29080" y="47239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81720" y="44193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34000" y="44953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1032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4570920" y="396216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51880" y="332892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8920" y="375732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06760" y="3730680"/>
            <a:ext cx="373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re, each mixture m has i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wn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m) vector (length k=2) an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trix (2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 matrix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800" y="2411280"/>
            <a:ext cx="81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r, a common trick with HMMs, we can use a single co-variance matrix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814400" y="5486400"/>
                <a:ext cx="5940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/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43080" y="3129120"/>
            <a:ext cx="3657600" cy="2133360"/>
            <a:chOff x="3043080" y="3129120"/>
            <a:chExt cx="3657600" cy="2133360"/>
          </a:xfrm>
        </p:grpSpPr>
        <p:sp>
          <p:nvSpPr>
            <p:cNvPr id="174" name=""/>
            <p:cNvSpPr/>
            <p:nvPr/>
          </p:nvSpPr>
          <p:spPr>
            <a:xfrm>
              <a:off x="3281400" y="4557600"/>
              <a:ext cx="60948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521240" y="3346560"/>
                  <a:ext cx="101520" cy="16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76" name=""/>
            <p:cNvGrpSpPr/>
            <p:nvPr/>
          </p:nvGrpSpPr>
          <p:grpSpPr>
            <a:xfrm>
              <a:off x="3043080" y="3129120"/>
              <a:ext cx="3657600" cy="2133360"/>
              <a:chOff x="3043080" y="3129120"/>
              <a:chExt cx="3657600" cy="21333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3080" y="3129120"/>
                <a:ext cx="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3080" y="5262480"/>
                <a:ext cx="36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3960" y="3433680"/>
                <a:ext cx="2971800" cy="1523520"/>
              </a:xfrm>
              <a:custGeom>
                <a:avLst/>
                <a:gdLst/>
                <a:ahLst/>
                <a:rect l="l" t="t" r="r" b="b"/>
                <a:pathLst>
                  <a:path w="1872" h="960">
                    <a:moveTo>
                      <a:pt x="1872" y="0"/>
                    </a:moveTo>
                    <a:cubicBezTo>
                      <a:pt x="1680" y="204"/>
                      <a:pt x="1488" y="408"/>
                      <a:pt x="1296" y="432"/>
                    </a:cubicBezTo>
                    <a:cubicBezTo>
                      <a:pt x="1104" y="456"/>
                      <a:pt x="896" y="120"/>
                      <a:pt x="720" y="144"/>
                    </a:cubicBezTo>
                    <a:cubicBezTo>
                      <a:pt x="544" y="168"/>
                      <a:pt x="360" y="440"/>
                      <a:pt x="240" y="576"/>
                    </a:cubicBezTo>
                    <a:cubicBezTo>
                      <a:pt x="120" y="712"/>
                      <a:pt x="40" y="904"/>
                      <a:pt x="0" y="9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67440" y="33573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43760" y="35096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10240" y="36622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8656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91480" y="37382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77080" y="40431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00760" y="38145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48480" y="38908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24440" y="36622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988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95840" y="37382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6268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10040" y="38908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1440" y="41194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8840" y="33573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1496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0568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24240" y="46526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76880" y="43480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29160" y="44240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0548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605040" y="4010040"/>
              <a:ext cx="60984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0680" y="3519360"/>
              <a:ext cx="60948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3000" y="3629160"/>
              <a:ext cx="609480" cy="5331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6880" y="3838680"/>
              <a:ext cx="609480" cy="5331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43520" y="3476520"/>
              <a:ext cx="60984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7800" y="243828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r we can treat a set of variables (like pixels in an image) as a set of Gaussian function (one or more per pixel) to describe its variability over a set (e.g. tim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x_mean" descr=""/>
          <p:cNvPicPr/>
          <p:nvPr/>
        </p:nvPicPr>
        <p:blipFill>
          <a:blip r:embed="rId1"/>
          <a:stretch/>
        </p:blipFill>
        <p:spPr>
          <a:xfrm>
            <a:off x="4341960" y="35193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x_std" descr=""/>
          <p:cNvPicPr/>
          <p:nvPr/>
        </p:nvPicPr>
        <p:blipFill>
          <a:blip r:embed="rId2"/>
          <a:stretch/>
        </p:blipFill>
        <p:spPr>
          <a:xfrm>
            <a:off x="6780240" y="3519360"/>
            <a:ext cx="2260440" cy="2119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611600" y="5734080"/>
            <a:ext cx="420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 this example, each pixel position h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ne Gaussian function, so we can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he mean and variance maps as imag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78120" y="3657600"/>
            <a:ext cx="3385800" cy="1716120"/>
            <a:chOff x="978120" y="3657600"/>
            <a:chExt cx="3385800" cy="1716120"/>
          </a:xfrm>
        </p:grpSpPr>
        <p:sp>
          <p:nvSpPr>
            <p:cNvPr id="212" name=""/>
            <p:cNvSpPr/>
            <p:nvPr/>
          </p:nvSpPr>
          <p:spPr>
            <a:xfrm>
              <a:off x="978120" y="3657600"/>
              <a:ext cx="33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X={          ,           ,          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               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,           ,  …}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13" name="shrub2seq0" descr=""/>
            <p:cNvPicPr/>
            <p:nvPr/>
          </p:nvPicPr>
          <p:blipFill>
            <a:blip r:embed="rId3"/>
            <a:stretch/>
          </p:blipFill>
          <p:spPr>
            <a:xfrm>
              <a:off x="1646280" y="3659040"/>
              <a:ext cx="65880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shrub2seq10" descr=""/>
            <p:cNvPicPr/>
            <p:nvPr/>
          </p:nvPicPr>
          <p:blipFill>
            <a:blip r:embed="rId4"/>
            <a:stretch/>
          </p:blipFill>
          <p:spPr>
            <a:xfrm>
              <a:off x="2529000" y="3657600"/>
              <a:ext cx="631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hrub2seq15" descr=""/>
            <p:cNvPicPr/>
            <p:nvPr/>
          </p:nvPicPr>
          <p:blipFill>
            <a:blip r:embed="rId5"/>
            <a:stretch/>
          </p:blipFill>
          <p:spPr>
            <a:xfrm>
              <a:off x="3403440" y="3665520"/>
              <a:ext cx="6130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hrub2seq20" descr=""/>
            <p:cNvPicPr/>
            <p:nvPr/>
          </p:nvPicPr>
          <p:blipFill>
            <a:blip r:embed="rId6"/>
            <a:stretch/>
          </p:blipFill>
          <p:spPr>
            <a:xfrm>
              <a:off x="1619280" y="4708440"/>
              <a:ext cx="6969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hrub2seq24" descr=""/>
            <p:cNvPicPr/>
            <p:nvPr/>
          </p:nvPicPr>
          <p:blipFill>
            <a:blip r:embed="rId7"/>
            <a:stretch/>
          </p:blipFill>
          <p:spPr>
            <a:xfrm>
              <a:off x="2490840" y="4727520"/>
              <a:ext cx="68904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3600" y="8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dden Markov Model (HMM)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eminder of model structure from previous l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758880" y="4782600"/>
            <a:ext cx="711000" cy="635040"/>
          </a:xfrm>
          <a:custGeom>
            <a:avLst/>
            <a:gdLst/>
            <a:ahLst/>
            <a:rect l="l" t="t" r="r" b="b"/>
            <a:pathLst>
              <a:path w="448" h="400">
                <a:moveTo>
                  <a:pt x="104" y="400"/>
                </a:moveTo>
                <a:cubicBezTo>
                  <a:pt x="52" y="312"/>
                  <a:pt x="0" y="224"/>
                  <a:pt x="8" y="160"/>
                </a:cubicBezTo>
                <a:cubicBezTo>
                  <a:pt x="16" y="96"/>
                  <a:pt x="88" y="32"/>
                  <a:pt x="152" y="16"/>
                </a:cubicBezTo>
                <a:cubicBezTo>
                  <a:pt x="216" y="0"/>
                  <a:pt x="344" y="24"/>
                  <a:pt x="392" y="64"/>
                </a:cubicBezTo>
                <a:cubicBezTo>
                  <a:pt x="440" y="104"/>
                  <a:pt x="448" y="200"/>
                  <a:pt x="440" y="256"/>
                </a:cubicBezTo>
                <a:cubicBezTo>
                  <a:pt x="432" y="312"/>
                  <a:pt x="344" y="376"/>
                  <a:pt x="344" y="4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06520" y="2585880"/>
            <a:ext cx="7618680" cy="4229280"/>
            <a:chOff x="1406520" y="2585880"/>
            <a:chExt cx="7618680" cy="4229280"/>
          </a:xfrm>
        </p:grpSpPr>
        <p:sp>
          <p:nvSpPr>
            <p:cNvPr id="221" name=""/>
            <p:cNvSpPr/>
            <p:nvPr/>
          </p:nvSpPr>
          <p:spPr>
            <a:xfrm>
              <a:off x="1406520" y="4592520"/>
              <a:ext cx="1066680" cy="99072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7120" y="4567320"/>
              <a:ext cx="1066680" cy="99036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2520" y="4592520"/>
              <a:ext cx="1066680" cy="99072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73200" y="4973760"/>
              <a:ext cx="1219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3200" y="5202360"/>
              <a:ext cx="1219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921120" y="5557680"/>
              <a:ext cx="711360" cy="63504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7235640" y="4757760"/>
              <a:ext cx="711360" cy="63504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72160" y="49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00000" y="4910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82760" y="4898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9200" y="5024520"/>
              <a:ext cx="137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5520" y="5253120"/>
              <a:ext cx="137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16000" y="5557680"/>
              <a:ext cx="4572000" cy="914400"/>
            </a:xfrm>
            <a:custGeom>
              <a:avLst/>
              <a:gdLst/>
              <a:ahLst/>
              <a:rect l="l" t="t" r="r" b="b"/>
              <a:pathLst>
                <a:path w="2880" h="576">
                  <a:moveTo>
                    <a:pt x="0" y="0"/>
                  </a:moveTo>
                  <a:cubicBezTo>
                    <a:pt x="504" y="288"/>
                    <a:pt x="1008" y="576"/>
                    <a:pt x="1488" y="576"/>
                  </a:cubicBezTo>
                  <a:cubicBezTo>
                    <a:pt x="1968" y="576"/>
                    <a:pt x="2648" y="104"/>
                    <a:pt x="288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40040" y="5557680"/>
              <a:ext cx="4952880" cy="1257480"/>
            </a:xfrm>
            <a:custGeom>
              <a:avLst/>
              <a:gdLst/>
              <a:ahLst/>
              <a:rect l="l" t="t" r="r" b="b"/>
              <a:pathLst>
                <a:path w="3120" h="792">
                  <a:moveTo>
                    <a:pt x="48" y="0"/>
                  </a:moveTo>
                  <a:cubicBezTo>
                    <a:pt x="24" y="20"/>
                    <a:pt x="0" y="40"/>
                    <a:pt x="144" y="144"/>
                  </a:cubicBezTo>
                  <a:cubicBezTo>
                    <a:pt x="288" y="248"/>
                    <a:pt x="664" y="520"/>
                    <a:pt x="912" y="624"/>
                  </a:cubicBezTo>
                  <a:cubicBezTo>
                    <a:pt x="1160" y="728"/>
                    <a:pt x="1384" y="792"/>
                    <a:pt x="1632" y="768"/>
                  </a:cubicBezTo>
                  <a:cubicBezTo>
                    <a:pt x="1880" y="744"/>
                    <a:pt x="2152" y="608"/>
                    <a:pt x="2400" y="480"/>
                  </a:cubicBezTo>
                  <a:cubicBezTo>
                    <a:pt x="2648" y="352"/>
                    <a:pt x="3000" y="88"/>
                    <a:pt x="312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652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884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5484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40040" y="3576600"/>
              <a:ext cx="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40040" y="3500280"/>
              <a:ext cx="205740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940040" y="3576600"/>
              <a:ext cx="457200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2015640" y="3576600"/>
              <a:ext cx="221004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226040" y="3576240"/>
              <a:ext cx="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226040" y="3576600"/>
              <a:ext cx="236196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2244240" y="3500280"/>
              <a:ext cx="449604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4530240" y="3500280"/>
              <a:ext cx="221004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40640" y="3576600"/>
              <a:ext cx="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30160" y="29052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87440" y="29066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94320" y="28764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47600" y="270036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1920" y="462456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at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dden states are indexes to Gaussian mix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geyser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5108400" cy="3833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725800" y="2935440"/>
            <a:ext cx="31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Adapted from an example 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am Rowe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ata maps time betwee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ruptions of a geyser v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uration of erup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his is modelled as a HM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with 3 hidden sta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3040" y="7948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56800" y="239508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trix as b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62160" y="3905280"/>
          <a:ext cx="2914560" cy="215280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 rot="16200000">
            <a:off x="129600" y="5042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87080" y="3648240"/>
            <a:ext cx="39754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The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(confusion) parame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ach state has a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mean) vec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th length k ( 2 in this cas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re is one mixture per hidden sta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re is either a covariance matri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er state, or (more usually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ne overall co-variance matrix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6600" y="6203880"/>
            <a:ext cx="38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NB: We now use </a:t>
            </a: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for the # of hidden node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# of observations is now shown as </a:t>
            </a: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61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80960" y="2771640"/>
          <a:ext cx="3276720" cy="137016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4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9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16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3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83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133720" y="5853240"/>
                <a:ext cx="54226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5098320" y="4915080"/>
            <a:ext cx="319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510160" y="2481120"/>
          <a:ext cx="2914560" cy="215280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 rot="16200000">
            <a:off x="4377600" y="36180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57560" y="323784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te at t me t-1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79040" y="23814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e at time 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19120" y="4410000"/>
          <a:ext cx="3124080" cy="1346400"/>
        </p:xfrm>
        <a:graphic>
          <a:graphicData uri="http://schemas.openxmlformats.org/drawingml/2006/table">
            <a:tbl>
              <a:tblPr/>
              <a:tblGrid>
                <a:gridCol w="1041120"/>
                <a:gridCol w="1041480"/>
                <a:gridCol w="10414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05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935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814680" y="475920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496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28880" y="4467240"/>
          <a:ext cx="4991040" cy="2170080"/>
        </p:xfrm>
        <a:graphic>
          <a:graphicData uri="http://schemas.openxmlformats.org/drawingml/2006/table">
            <a:tbl>
              <a:tblPr/>
              <a:tblGrid>
                <a:gridCol w="342720"/>
                <a:gridCol w="609480"/>
                <a:gridCol w="304812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r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8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69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084e-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0514e-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6129360" y="4648320"/>
            <a:ext cx="29289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GB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= [4.0,60.0]}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ormalisation solves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problem with the Gaussi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functions consta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510160" y="2481120"/>
          <a:ext cx="3099960" cy="1557360"/>
        </p:xfrm>
        <a:graphic>
          <a:graphicData uri="http://schemas.openxmlformats.org/drawingml/2006/table">
            <a:tbl>
              <a:tblPr/>
              <a:tblGrid>
                <a:gridCol w="1053360"/>
                <a:gridCol w="1013040"/>
                <a:gridCol w="103356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 rot="16200000">
            <a:off x="4430160" y="31942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19280" y="2585880"/>
          <a:ext cx="3124080" cy="1346400"/>
        </p:xfrm>
        <a:graphic>
          <a:graphicData uri="http://schemas.openxmlformats.org/drawingml/2006/table">
            <a:tbl>
              <a:tblPr/>
              <a:tblGrid>
                <a:gridCol w="1095120"/>
                <a:gridCol w="987480"/>
                <a:gridCol w="10414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05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935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935280" y="304308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3400" y="81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00000" y="4224240"/>
          <a:ext cx="8244000" cy="2176560"/>
        </p:xfrm>
        <a:graphic>
          <a:graphicData uri="http://schemas.openxmlformats.org/drawingml/2006/table">
            <a:tbl>
              <a:tblPr/>
              <a:tblGrid>
                <a:gridCol w="471600"/>
                <a:gridCol w="685800"/>
                <a:gridCol w="990720"/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69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) + (0.0302*0) + (0.00*0.9835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.3047) + (0.0302*0.6167) + (0.00*0.0165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.6953) + (0.0302*0.3833) + (0.00*0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019120" y="2806560"/>
            <a:ext cx="357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[4.0,60.0]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 [2.0,80.0]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380960" y="2684520"/>
          <a:ext cx="3276720" cy="136980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4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9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16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3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83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 rot="16200000">
            <a:off x="457560" y="307584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te at t me t-1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9040" y="22939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e at time 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s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5320" y="23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first coursework deals with using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b seminar dealt with practical issues around the discrete HMM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se ideas all apply equally to the continuous valued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work requires you to write forwards and backwards evaluation routines and use them to measure statistics for a simple visual control tas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ing Mixture Models in continuous valued Hidden Markov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ble length Markov Models: “The Power of Amnesia”, D. Ron, Y. Singer and N. Tishby, In Advances in Neural Information Processing Systems (NIPS), vol 6, pp 176-183, 199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xtending VLMMs to work with continuous valued data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“Learning temporal structure for task-based control”, check for latest version at 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informatics.sussex.ac.uk/users/khs2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combine multi-dimensional Gaussian mixture models with simple HMMs to interpret continuous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hidden states then index the Gaussian mix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ward and backwards evaluation perform the same functions as in the discrete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ynamic Bayes nets for recognising visual behaviour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G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vides a well-founded methodology for representing e.g.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bitrarily complex fun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bined with HMMs (previous lecture) provided one basis for a model of expectation capable of dealing with continuous valu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Gaussian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9960" y="2881440"/>
            <a:ext cx="41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 1-dimension, the Gaussian Fun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s the probability function of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ormal distribu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4114800"/>
                <a:ext cx="358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990720" y="2743200"/>
            <a:ext cx="3962160" cy="3371040"/>
            <a:chOff x="990720" y="2743200"/>
            <a:chExt cx="3962160" cy="3371040"/>
          </a:xfrm>
        </p:grpSpPr>
        <p:pic>
          <p:nvPicPr>
            <p:cNvPr id="103" name="gauss" descr=""/>
            <p:cNvPicPr/>
            <p:nvPr/>
          </p:nvPicPr>
          <p:blipFill>
            <a:blip r:embed="rId1"/>
            <a:stretch/>
          </p:blipFill>
          <p:spPr>
            <a:xfrm>
              <a:off x="990720" y="2743200"/>
              <a:ext cx="396216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V="1">
              <a:off x="3038400" y="2895480"/>
              <a:ext cx="0" cy="289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2720" y="565452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919800" y="38592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024520" y="521820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me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std devi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varia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Gaussian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23640" y="4719600"/>
            <a:ext cx="39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n extend this idea to k-dimens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the multivariate normal distributio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: # of dimens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vectors of k data valu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covariance matri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: matrix transpo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2Dmeshb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11" name="gauss1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1828800" cy="175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97040" y="5200560"/>
                <a:ext cx="38592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4560" y="2486160"/>
            <a:ext cx="821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For single dimension (k=1) X with N observations = {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…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590920" y="3352680"/>
                <a:ext cx="4000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nce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33640" y="510552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small samples (say N &lt; 20), a better unbiased estim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s given by replacing 1/N terms with 1/(N-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21320" y="252900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k-dimensional X with N observations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23880" y="3200400"/>
                <a:ext cx="34290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  ,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5029200"/>
                <a:ext cx="56390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08800" y="3200400"/>
                <a:ext cx="10569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590920"/>
                <a:ext cx="5867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166760" y="4876920"/>
            <a:ext cx="68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ovariance matrix is symmetric I.e. cov(x</a:t>
            </a:r>
            <a:r>
              <a:rPr b="0" lang="en-GB" sz="2400" spc="-1" strike="noStrike" baseline="30000">
                <a:solidFill>
                  <a:srgbClr val="003366"/>
                </a:solidFill>
                <a:latin typeface="Times New Roman"/>
              </a:rPr>
              <a:t>k,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)=cov(x</a:t>
            </a:r>
            <a:r>
              <a:rPr b="0" lang="en-GB" sz="2400" spc="-1" strike="noStrike" baseline="30000">
                <a:solidFill>
                  <a:srgbClr val="003366"/>
                </a:solidFill>
                <a:latin typeface="Times New Roman"/>
              </a:rPr>
              <a:t>1,k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iagonal matrix is variance of 1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k parame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trix encodes variability between var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correlated dimensions will have low co-vari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 of co-vari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cov_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127" name="cov_80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cov_minus80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667240" cy="200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2520" y="5105520"/>
                <a:ext cx="152388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23880" y="5105520"/>
                <a:ext cx="15242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477120" y="5181480"/>
                <a:ext cx="152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46:20Z</dcterms:modified>
  <cp:revision>65</cp:revision>
  <dc:subject/>
  <dc:title>Markov Models</dc:title>
</cp:coreProperties>
</file>